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A23-F290-4009-80AF-25582121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212-6867-45E4-AF1C-2CA43783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E0A-D917-4EC7-B624-4B9DA06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E98-F982-40C5-BD7F-3F4DB60B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5A9-B47B-43F7-BED5-20CD13F5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79B4-9151-42D7-A08E-63AC5D0A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4C32-96D3-45DB-B1C0-2374B5B6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59D6-07D3-46B6-9D8B-674F6543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6947-2A64-44A6-9557-3D5CEC66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3565-FF6D-4E92-B62E-B698C1F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9650-9F20-4A7D-AF9F-E6F57801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447-15CE-4BEF-8446-ABA0BDAB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AFFB-E3C0-46B6-B19C-4161883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69B0-BBE8-4205-9A16-34BB81DE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3EBF-400C-4829-A23C-5ABA6ED3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3A11-4FAF-41F7-A76D-69635F01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98F9-2B2F-46D4-B56B-385DFF25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3D73-93C9-44DA-AB0E-855476A3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AD61-F8A0-49CA-99F3-F4CFDFD2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90216-9FBA-40D7-B87F-56D53EA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C184-C9A3-472A-ACCF-6E63555A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8D3B-51C5-4882-AE99-FC9F4758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B97-09E5-4333-9407-8AEBC0C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751E-F024-4DA3-9C0D-1D2E921F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36611-E2E6-4C6F-A5E9-0DFF8C3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9956-38BC-4C69-9F53-CFB9EF3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42A8-FD78-43FD-B50F-9663F77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8273-D769-404E-BBA5-985C3CDC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410E-8C7D-4BE6-90EA-F23C8D45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41C6-C0E6-4F20-877D-92CA6D8A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F678-6A55-42A6-AF22-97ADE0B8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EDA3-6240-458E-AB96-520B00A6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743D-54A9-4763-A3C3-2E894DB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037-FB17-4D7C-9E10-EA1D55CD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F68E-AEE1-4A94-B6E5-B802109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2819-045B-411F-956C-4023E3F7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5A9BF-C71E-4834-BB52-B1938B6E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D949-C29D-4372-90D9-DCF66A3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5680-6224-430E-BFDC-E6F811C6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840C-134F-47BC-8564-4600708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057A-A1A0-4697-BD17-4A5E2760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CAA6-9485-4514-8D0F-B89E9309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4031-B184-4C1A-8C43-AB1C3146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FBD-65EF-48FE-BE02-6F5307FF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45C-CDA8-4DB6-B68B-F6422B69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911-78A6-4B98-92DF-2150BD16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4A4-BEA3-4A0B-8809-2AF692B4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A07-4D56-48B5-A6F6-836299A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E8D5-19DA-47C0-99DB-0C1997FE23C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F3E0-BA3B-4EDF-A0D5-7AAFB134192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C6F8-8663-49DC-AD2D-C69A1C458672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A6DC-DFCD-4F8F-936A-8E58F20BC91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dbf5f9"/>
                </a:solidFill>
                <a:latin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s://www.youtube.com/watch?v=TNKWgcFPHqwhttps://www.youtube.com/watch?v=TNKWgcFPHq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21-11-15T15:16:37Z</dcterms:modified>
  <cp:revision>101</cp:revision>
  <dc:subject/>
  <dc:title>2-Humani genom</dc:title>
</cp:coreProperties>
</file>